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579C-6D48-42B1-80A3-5ACBA96F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0B9D-4453-448A-8EAC-D2A334AF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A96E-4E9F-4736-B7DC-23BF8EF5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8C74-1912-4367-B5FD-0C1C6E0D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FEE8-9A1B-4C0D-A424-D026A5CF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9648-DB8A-4BCE-A712-515E7C92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7141-FC65-4351-B3CE-7C85DD40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CCA9-80D1-44C6-A05F-EE0D07CB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2115-E2C4-423F-A21D-9A7DB008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2DF5-D669-481F-B1B0-517290DA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D421-7239-44E1-99CB-2A45516A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D3F4-9096-4180-A39A-922BE635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7D8C-188D-4F8E-8FE3-C92C2EC6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2660-721D-4A3A-BCFC-DA7ED231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A1C6-2F34-4757-8DFC-38232C54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D195-E642-4065-861A-685A7A1F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40E0-B1B9-448A-892E-8DE566ED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35C3-3A1F-4DF7-BE13-F0634DDC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9E34-BE20-422D-87EB-0959E8A3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8852-1016-4531-A89E-A3029D4D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A5A6-CB57-4F01-AC18-1C144D02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0CD5-28C3-4C83-883D-1936AA22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F8E8-0CBB-4654-BB20-C58B9E97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7016-FED9-449E-862E-777C93AE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D7E7-3451-42EB-8A6E-2A0D00FFECDB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EF63-53AE-42B4-A2F1-8BCC3EC35029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FLASH CARD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e01923_" descr=""/>
          <p:cNvPicPr/>
          <p:nvPr/>
        </p:nvPicPr>
        <p:blipFill>
          <a:blip r:embed="rId1"/>
          <a:stretch/>
        </p:blipFill>
        <p:spPr>
          <a:xfrm>
            <a:off x="2895480" y="4419720"/>
            <a:ext cx="3810240" cy="2230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286000"/>
            <a:ext cx="8381880" cy="17524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phenomena of group leadership and member interaction characterized by inward-looking, self-regulating, and stereotyping behavi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6711840" y="6172200"/>
            <a:ext cx="2078280" cy="45972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for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581280" y="4600440"/>
            <a:ext cx="2022480" cy="2257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520" y="1676160"/>
            <a:ext cx="5867280" cy="11430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Groupthin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240" y="3504960"/>
            <a:ext cx="662940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  <a:effectLst>
            <a:outerShdw dist="107932" dir="2700000" blurRad="0" rotWithShape="0">
              <a:srgbClr val="3399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 phenomena of group leadership and member interaction characterized by inward-looking, self-regulating, and stereotyping behavi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6711840" y="6172200"/>
            <a:ext cx="2078280" cy="45972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for Te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28920" y="6172200"/>
            <a:ext cx="2634480" cy="45972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for Defi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581280" y="4600440"/>
            <a:ext cx="2022480" cy="22575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99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Interactional Approa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1219320"/>
            <a:ext cx="7010280" cy="21333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66"/>
                </a:solidFill>
                <a:latin typeface="Times New Roman"/>
              </a:rPr>
              <a:t>Study of personality considers the person and the situation as co-determinants of behavio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4648320"/>
            <a:ext cx="6629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  <a:effectLst>
            <a:outerShdw dist="107932" dir="2700000" blurRad="0" rotWithShape="0">
              <a:srgbClr val="3399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nteractional Approa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6028920" y="6172200"/>
            <a:ext cx="2634480" cy="45972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for Defi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21:45:51Z</dcterms:created>
  <dc:creator>Dianne Jones</dc:creator>
  <dc:description/>
  <dc:language>en-US</dc:language>
  <cp:lastModifiedBy>jonesd</cp:lastModifiedBy>
  <dcterms:modified xsi:type="dcterms:W3CDTF">2002-07-19T14:57:48Z</dcterms:modified>
  <cp:revision>12</cp:revision>
  <dc:subject/>
  <dc:title>FLASH CARDS</dc:title>
</cp:coreProperties>
</file>